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F76-BB42-4886-A62F-B2370D4DBF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C3D6-C1E4-4894-B6BD-3AEF20138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8A33-6DDC-41A9-8985-6538C5BF0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9E5E-11C2-402C-B0AF-F42173E1C4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59B6-4602-45CD-91A6-351DE34AD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0FC6-258E-465D-B91E-D952ED2A4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76CA-8BB3-48BB-BDB9-6270B3F7E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5921-B656-448E-B78B-4712DC453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5C98-0393-48B4-9CEF-CA04F8E0BE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AEB3-20BE-473F-B214-E77D43F3B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383F-5F8B-42C1-8115-A28F552901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0F1A-A60D-4DB2-8FCC-4B13486DB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23AD-147F-4A14-873A-D14CAE13D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10F9-A916-4B92-A1C4-5E40B1B82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6195-5F49-480E-B03C-C0803051E0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FA3D-DA2E-4DA1-ACD2-1C09AA7353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9AC7-2D15-40C2-8B6C-58377BA57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973E-879E-4937-A4AC-E8B559945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2D17-0535-49A0-A0E1-3FD0E49D9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F9F8-0574-48BF-98F7-1AE687C6EB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2F4-73AF-4768-AFEC-1710E8D6A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F840-7805-4059-9BD3-E0A042347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E42B-1470-4134-B16F-500330C58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CC5C-A8CA-4444-AD5F-8B581A56E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EB5A-F093-4584-9558-AD3D78E2C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92EA-CF39-4878-8581-FB0C7DDD6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00F5-3B95-4A12-BC07-B590904E90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604E-8B26-411D-A364-1A2EE68B1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DE13-67D7-4D46-992C-0497A3C3D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BBB3-DBE6-4A0B-A221-57C86D338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B17-6E9F-4A94-A318-0D620B5D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CD0-A7B7-4658-8205-6EBEBC22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CC9-5E54-4DB1-B067-D4E7EDC9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C8A-23B5-42DA-A3F9-25B956C1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C1C-A9B6-442A-AF97-DCE58483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4C4-AD61-4492-A6B1-74D4D050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B9E-CB25-42C7-A494-18A9DF54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9F0-6683-4D0D-95FB-6E51A14C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D94-D827-48B0-BEED-6F147733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EBB-2F82-4F47-95B9-67D0D71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2EB-A2A4-4D0D-B7A5-6345F07B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034-AFB7-4BFF-A517-A6FF3FF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DFC8-F38B-44BE-8BCF-D72FF188A9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355680"/>
            <a:ext cx="9325080" cy="6210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270036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itannic Bold"/>
              </a:rPr>
              <a:t>Sh   t Type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7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cc0000"/>
                </a:solidFill>
                <a:latin typeface="Britannic Bold"/>
              </a:rPr>
              <a:t>Sh   t Typ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ls all a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mid shot_0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39640" y="26028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Mid-sho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most common shot used, especially on television.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show most of a figure but will show location too so is a popular choice for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wo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a good choice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ot – reverse – 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scenes involving a dialog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mid all 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side on as well as straight on. This mid-shot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thnail and 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uggests a real sense of unity between the two characters that could be lost if the camera was directly in front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ithnail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7570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dium close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86920" y="2060280"/>
            <a:ext cx="712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ium close-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defined as head and shoulder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ium close-u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more intimate tha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this shot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eathles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lust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Two sh B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eep ovs_0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24000" y="47628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 the shoulder shots are of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um close-u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s is seen in this shot fr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ping To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um close-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llows the viewer to see a greater depth of emotion on the actor’s 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US STOP_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468360" y="5300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is shot from Bus Stop you get 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the should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um close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4 shot through a reflection. This allows us to see the map and the reaction to i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reme Long Shot</a:t>
            </a:r>
            <a:br>
              <a:rPr sz="4000"/>
            </a:b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treme long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ometimes called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de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has a variety of functions. In this scene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i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shows the vastness of the ship and makes the characters seem vulnerable. The effect is made greater by the number of claustrophobic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ose-u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 prece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u breat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68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ose-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us stop_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79280" y="5516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-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ets us see emotion and reactions on actor’s faces that could be missed. Very of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-u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ill be 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aw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 a wider sho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lose up_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50920" y="5300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-up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an also isolate important elements of mise-en- scene. In this cutaway shot from The Conversation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three locks show the character’s parano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alien cu_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24000" y="566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drama of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an be enhanced by an unusual ang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eeptome_0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24000" y="404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treme Close-u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x cu ch_0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24000" y="5589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eme close-up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very tight so that only part of an object or person can be see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mera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range of effects can be gained by changing angles. In the next shot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ne with the W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ale figure is seen as dominant over the female because of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w ang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s she is in the foreground the low angle has most effect on his position in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ow angl_0"/>
          <p:cNvPicPr/>
          <p:nvPr/>
        </p:nvPicPr>
        <p:blipFill>
          <a:blip r:embed="rId1"/>
          <a:stretch/>
        </p:blipFill>
        <p:spPr>
          <a:xfrm>
            <a:off x="179280" y="135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 ang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hot from the same film makes him seem small and it emphasises the expectation of the central female character’s entrance at the top of the st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igh ang_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ien est_0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m low a_0"/>
          <p:cNvPicPr/>
          <p:nvPr/>
        </p:nvPicPr>
        <p:blipFill>
          <a:blip r:embed="rId1"/>
          <a:stretch/>
        </p:blipFill>
        <p:spPr>
          <a:xfrm>
            <a:off x="0" y="260280"/>
            <a:ext cx="9325080" cy="4122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324000" y="47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w-ang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t from Mad Max gives the character authority and powe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wrence of Arabi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has some of cinema’s most famous extreme long sho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lawrence_0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withnail_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755640" y="33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g Sho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ng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hould show a whole figure or a large section of location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ng-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ten feature movement because static figures i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ng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eem confrontatio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6664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39640" y="213372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 makers will often break up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wo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adding another plane. In this shot from All About Ev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supported by another figure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ng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21:39:42Z</dcterms:created>
  <dc:creator>AKM</dc:creator>
  <dc:description/>
  <dc:language>en-US</dc:language>
  <cp:lastModifiedBy>Elizabeth Cousar</cp:lastModifiedBy>
  <dcterms:modified xsi:type="dcterms:W3CDTF">2014-02-14T16:00:18Z</dcterms:modified>
  <cp:revision>16</cp:revision>
  <dc:subject/>
  <dc:title>Shot Types</dc:title>
</cp:coreProperties>
</file>